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227-FE99-46ED-97A4-43CAD25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39-E8EE-468B-9C4D-BA4E6A1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FAB-7C1A-4B53-99D7-DEE129DC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614-986F-4012-A358-ECBD8D5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F3E-89F2-498F-86F9-2EF4E98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290-1351-4904-8EF8-C07B812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0CC-1728-44F6-9FCD-BFF9A85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075-777F-435B-AA09-3145E16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CE8-9DB8-4330-9D66-180269A6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F30-DE0F-4D2E-8CA0-812D51B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280-0BCD-45A7-B057-259E872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101-6C7E-4952-A7EB-C72CEA8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4BFF-42E6-4DB8-B57E-1219DBFB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hat affect does gender have on seeing the differences between two pictures?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y: Jessica Ri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53828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133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-1:41                Tristin P.- 1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- 2:32             Tristen V.- 1: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- 1:21        Zane- 1: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- 1:51         Brayden- 2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n- 1:29                 Erik- 2: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really no difference between the boys and girls. Most of the boys were faster than the girls. Although some of the guys had slower times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guys had faster times. When comparing the times between each gender there was really no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old them that the corners of the sun didn’t count, and some of them didn’t get what I was saying so they took along time trying to find the last differ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some distractions when taking the test so that costed some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boys and girls their brains aren’t different at all. The only difference really is the fact that boys’ brains develop slower than girls’ bra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is project I spent approximately 10 hours over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 for all of the people who were in my experiment!!! It helped me a lot for my experi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 Thanks to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, Emma, Shelby S., Shelbi F, Erin, Tristin P., Tristen V., Zane, Brayden, and Er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Boys' And Girls' Brains Are Different: Gender Differences In Language Appear Biological."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cience Daily: News &amp; Articles in Science, Health, Environment &amp; 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&lt;http://www.sciencedaily.com/releases/2008/03/080303120346&gt;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All About Eyes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idsHeal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kidshealth.org/parent/general/body_basics/eyes.html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 NASSPE: Research &gt; Brain Differences 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SSPE: Home &gt;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troduc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. 2012. &lt;http://www.singlesexschools.org/research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.htm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gender have an affect on how fast people can see the difference between two pictur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1827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looked at the can-you-find-the-difference pictures in the newspaper? Have you ever wondered if the fact that gend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s a difference on how fast you can find the differences? We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trying to find if there is a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4572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ictures that are the same but have differences that you have to fi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Girls &amp; 5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per to keep track of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rls                       Boy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                    Tristin 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 L.              Tristen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             Zane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              Bray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ci W.                Erik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really no difference between boys and girls brains. The only difference would be how fast they produ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rls have different ways that they’re brains work. They have a very good ability to be able to understand language related things than guy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yes and our brain work together to be able to see things, and see other things like, size, shape, texture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ink that the girls will be able to find all of the differences faster. Girls usually tend to be able to find things faster when looking for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I will take each person by themselves and I won’t show them the pictures until I start to time the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 will time them and finish once they have found all of the differ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I will look at the times between the boys and girls, and I will be able to see who found all of the differenc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compare their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ependent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t- Comparing boys and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ed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32:37Z</dcterms:created>
  <dc:creator>USD376</dc:creator>
  <dc:description/>
  <dc:language>en-US</dc:language>
  <cp:lastModifiedBy>USD376</cp:lastModifiedBy>
  <dcterms:modified xsi:type="dcterms:W3CDTF">2012-03-02T17:29:56Z</dcterms:modified>
  <cp:revision>10</cp:revision>
  <dc:subject/>
  <dc:title>What affect does gender have on seeing the differences between two pictures? </dc:title>
</cp:coreProperties>
</file>